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2.pct" ContentType="image/x-pict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C8CB-11DB-4D8C-8BCB-53FF8226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4CD4-CCC9-4892-9410-3A2D884E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68CF-523A-4765-AAB5-388D03DB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446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4788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8410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446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44788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19B0-579F-46F7-A3B7-E7EEC9DD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03520" y="525600"/>
            <a:ext cx="5943600" cy="77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40A9-456F-4FF9-ABE7-B9722C77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6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44788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8410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6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44788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272D-B36C-4BE4-9DD2-6D9A9EF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A1F0-BB48-4807-8450-1A256FEB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5F43-9F28-4F2F-AE95-9B39D07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03520" y="525600"/>
            <a:ext cx="5943600" cy="77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E9F6-D628-4926-9C09-65AA81DF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A428-293F-40F6-A12D-ABE9A1F4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1664-0F0C-4734-8F44-59E0746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5DAA-FE54-4D37-8AD8-3585B101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6280"/>
            <a:ext cx="250920" cy="63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5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563400"/>
            <a:ext cx="250920" cy="6294600"/>
          </a:xfrm>
          <a:prstGeom prst="rect">
            <a:avLst/>
          </a:prstGeom>
          <a:solidFill>
            <a:srgbClr val="3b3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276f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60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601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33440" indent="-950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0" y="5300640"/>
            <a:ext cx="179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669000"/>
            <a:ext cx="8893080" cy="189000"/>
          </a:xfrm>
          <a:prstGeom prst="rect">
            <a:avLst/>
          </a:prstGeom>
          <a:solidFill>
            <a:srgbClr val="072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6844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240840" y="558720"/>
            <a:ext cx="9720" cy="629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50920" y="6669000"/>
            <a:ext cx="8893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8150040" y="6669000"/>
            <a:ext cx="10062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432E-A620-4910-8C23-92E6AE1BCA1F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/</a:t>
            </a: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356760" y="6668640"/>
            <a:ext cx="36003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686720" y="0"/>
            <a:ext cx="103824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1" name=""/>
          <p:cNvSpPr/>
          <p:nvPr/>
        </p:nvSpPr>
        <p:spPr>
          <a:xfrm>
            <a:off x="963720" y="274464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Lucida Sans Unicode"/>
              </a:rPr>
              <a:t>Click to edit the outline text format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lvl="1" marL="476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Second Outline Level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857160" algn="ctr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Third Outline Level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3" marL="1238400" algn="ctr"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3880" algn="ctr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79720" y="1712880"/>
            <a:ext cx="5479920" cy="2847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8920" y="366480"/>
            <a:ext cx="73609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Lucida Sans Unicode"/>
              </a:rPr>
              <a:t>Coordinator’s report</a:t>
            </a:r>
            <a:endParaRPr b="1" lang="en-US" sz="48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Huib van Langevelde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EXPReS board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Utrecht, 30 January, 2008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Satisfying EC contract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914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I think we are doing OK in year 2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1680" indent="-8892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But we noticed last year that the standard is quite high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571680" indent="-8892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hink the PR activities with global connectivity helped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5408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we will do some mor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52960" y="2770200"/>
            <a:ext cx="3710160" cy="2282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368280" y="2130480"/>
            <a:ext cx="45068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Must be seen to take their considerations se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Regular monitor tool to measure operational bandwidth every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Closer liaison with network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Explore QoS tools to get bett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Use more collaborative tools established else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Keep closer control on delive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06EF-E5B6-4A28-9E46-6B80E75881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Are we getting what we want?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0040" y="3943440"/>
            <a:ext cx="3554280" cy="2666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61440" y="764640"/>
            <a:ext cx="8782200" cy="56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Yes! An opportunity to position VLBI for the next decad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 way to offer new scientific capabiliti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 upgrade path for VLBI in the futur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36800" indent="-18828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Larger bandwidth, more bit per sample 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36800" indent="-18828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But not quite clear what the correlator for that should look lik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 opportunity to position e-VLBI as a SKA pathfinder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36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 good collaboration with suppliers of Network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Dynamic lightpaths prove importa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Pushing the requirements for Networking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computing at some poi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uilding up expertis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momentum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a reputation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4113-6251-477D-A268-B70F84C7CF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What’s next?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There are 20 months left in EXPRe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f we extend the project for 6 month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Not an obvious EC call to continue our project in FP7 (yet)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aybe a new call in late 2008 for 2009 start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But EC themes seem different from our ambitions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Currently a unique collaboration of Observatories &amp; NREN’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We should aim to continue this, who would disagree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Maybe involve more supercomputing/GRID in the future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keep our focus on (Global) e-VLBI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 like to get some NRAO antennas involved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Or should it be about e-LOFAR and SKA as well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Number of things to be addressed in future e-VLBI: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Light paths on demand, around the globe...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Buffering data at telescopes and correlator for robustnes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ake use of 10Gbps connectivity operationally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Needs data acquisition system and correlator concept!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56EB-EEA8-4945-A2A4-228776B65D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79720" y="1662120"/>
            <a:ext cx="5479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7276f"/>
                </a:solidFill>
                <a:latin typeface="Lucida Sans Unicode"/>
              </a:rPr>
              <a:t>Objective of this talk</a:t>
            </a:r>
            <a:endParaRPr b="1" lang="en-US" sz="2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Review progress meeting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Do discuss the progress in EXPReS from board perspectiv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hat has EXPReS managed to demonstrate so far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hat are the concerns with respect to progress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s the EC getting what they contracted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re we going where we want to be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nd think beyond the EXPReS projec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ture of the project, future of e-VLBI, future of our collaboration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Relation to other initiatives, telescop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 few words about JIVE....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Going through many personnel chang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4" name=""/>
          <p:cNvSpPr/>
          <p:nvPr/>
        </p:nvSpPr>
        <p:spPr>
          <a:xfrm rot="840000">
            <a:off x="7034040" y="2493720"/>
            <a:ext cx="1814400" cy="76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y perso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iase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EDB9-3EF5-4467-82E4-AA1A480965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7276f"/>
                </a:solidFill>
                <a:latin typeface="Lucida Sans Unicode"/>
              </a:rPr>
              <a:t>JIVE</a:t>
            </a:r>
            <a:endParaRPr b="1" lang="en-US" sz="2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599760"/>
            <a:ext cx="8591400" cy="60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EXPReS secretary Diana van Dijk lef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nternal transfer to AstroTech Holding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anaged to arrange transition for the continuity EXPR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Yvonne Kool joined secretari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Now employed as senior secretary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ll time job at JIVE, EXPReS among her responsibiliti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Zsolt Paragi will be Senior Support Scientis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Permanent position with JIV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ill fulfil e-VLBI scientist role for remainder of EXPR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Checked with EC that this is still “eligible”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Other EXPReS staff changes last summer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JIVE staffing situation has been tigh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ill still have opening in management structur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oU renewal negotiated, JIVE for 5 more year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nding proposal for RadioNet of vital importance 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300A-FD19-41A6-B7F4-7878510525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276f"/>
                </a:solidFill>
                <a:latin typeface="Lucida Sans Unicode"/>
              </a:rPr>
              <a:t>Yesterday’s progress meeting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od progress, and a lot of discussion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Very useful source of information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Good to have it before the annual report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Need to see more progress reports in the public domain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 are a multi-disciplinary lot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For some talks the Networks are just clouds of vapourware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For others the astronomers are in the clouds :-)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But I guess we can bear with that!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re was a lot of “interference” from LOFAR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Many talks had some mention of LOFAR requirement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But addressing common problems with LOFAR is part of Description of Work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So, EXPReS can facilitate that discussion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I think this format is very good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Board meeting seems long too wait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76f"/>
                </a:solidFill>
                <a:latin typeface="Lucida Sans Unicode"/>
              </a:rPr>
              <a:t>The Shanghai e-VLBI meeting could be interesting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9" name=""/>
          <p:cNvSpPr/>
          <p:nvPr/>
        </p:nvSpPr>
        <p:spPr>
          <a:xfrm>
            <a:off x="6246720" y="5767560"/>
            <a:ext cx="243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F05A-7B41-4EC8-8833-39416D94C2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24560" y="4140360"/>
            <a:ext cx="4316400" cy="2555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EXPReS has demonstrated...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8718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That e-VLBI can be done reliably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and at competitive sensitivity now!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odified succesfully the old correlator and adopted the operational procedure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6 telescopes operational in Europe  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Operations favour dedicated lightpaths for robust performanc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tinkering with the protocols (UDP)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And then we can get close to 1 Gbp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Can even do intercontinental VLBI in real-time!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Overcame round-trip time problem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even complex politic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79880" y="1782720"/>
            <a:ext cx="4164120" cy="1827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643880" y="0"/>
            <a:ext cx="1185840" cy="289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9E58-04EF-43F0-8252-C1DB881954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EXPReS demonstrated more...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51368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Various ways to proceed beyond current VLBI system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10Gbps connectivity coming up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Started iBoB developme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Demonstrated working on distributed software correlator 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stronomy can be done with this network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nd even new scienc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nd even spectral line scienc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49960" y="3417840"/>
            <a:ext cx="3119400" cy="309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27560" y="655560"/>
            <a:ext cx="391644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954080" y="4619520"/>
            <a:ext cx="2143080" cy="198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4209-D0B2-47E8-B7C5-801482611C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Astronomy: spectral line science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33840" y="4030560"/>
            <a:ext cx="3059280" cy="22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11880" y="592200"/>
            <a:ext cx="2444760" cy="36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2360" y="2208240"/>
            <a:ext cx="4857840" cy="4646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4000" y="765000"/>
            <a:ext cx="582264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strometry of circumstellar ma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100000"/>
              </a:lnSpc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e-VLBI to get better time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100000"/>
              </a:lnSpc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So our very slow response is justified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echnically OK, demonstration 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Science goals not so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70DD-1082-4DC6-A5B0-8EEDAD608A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Concerns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914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Keep the money flowing, yes we know!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Continuity of staffing is always a worry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nternal communication can always be improved!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Not to be remedied by e-collaboration tools as the review suggested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Technical issue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ust make the transition to Mk5B for eVLBI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Parts of the e-MERLIN correlator on the critical path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Connectivity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Really, really like to have Effelsberg in the Network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Yebes when it is availabl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Ventspils when it is ready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ests with South-America and Africa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D847-8936-4703-9336-5DE03095C6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41840" y="3129120"/>
            <a:ext cx="4817880" cy="3406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Concerns (cont)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Astronomy not yet the greatest succes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Still fail to attract large numbers of user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Poor sensitivity compared to disk recording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Effelsberg missing, not at 1 Gbp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Not providing longest baselines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Cannot yet offer China, Arecibo, South Africa operationally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Confused by changing policies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Policy now not very restrictive anymore, EVN board quite supportive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3" marL="1333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"/>
          <p:cNvSpPr/>
          <p:nvPr/>
        </p:nvSpPr>
        <p:spPr>
          <a:xfrm>
            <a:off x="442800" y="2968560"/>
            <a:ext cx="2776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Some frustration with inertia/conservatism of EVN offi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10152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 think this is as fast forward as we can g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odified call for proposals advert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10152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Deadline in 2 days, hard to predict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EC seems to await a “big discov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B8FB-7F63-407B-9056-900E48A9EE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cp:keywords/>
  <dc:language>en-US</dc:language>
  <cp:lastModifiedBy>Huib Jan van Langevelde</cp:lastModifiedBy>
  <cp:lastPrinted>2008-01-29T09:32:49Z</cp:lastPrinted>
  <dcterms:modified xsi:type="dcterms:W3CDTF">2008-01-30T08:15:15Z</dcterms:modified>
  <cp:revision>223</cp:revision>
  <dc:subject/>
  <dc:title>PowerPoint Presentation</dc:title>
</cp:coreProperties>
</file>